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7E6A-91C7-4F03-B0A6-D7250C11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F864-0047-48DF-A7A6-48456893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2A6C-00AD-4C15-A852-9E706E47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9E0C-CABA-42BB-A7EF-E4665BAB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512F-259D-42EC-976A-5D59849B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714-F7FC-4365-A31E-5FBFDF1E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712-BE09-4351-8615-82C4DFD0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FBC5-344B-4467-8EB4-C44E8BDA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0F5-49C4-4140-AA27-AB724480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07E-F7D0-4639-BE19-C5935008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F8FB-4890-46B9-9434-D0E8432B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9A3D-CA27-43F6-87E3-F8EC0D3F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4912-17C0-458F-A2F3-0671CD90F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010200" cy="1076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3581280" cy="819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731520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7391520" cy="247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82296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620120" cy="397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4648320"/>
            <a:ext cx="8763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505320" cy="712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76201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305920" cy="3878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4724280"/>
            <a:ext cx="8458200" cy="738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4120" y="510552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486400" cy="4897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19520" y="3048120"/>
            <a:ext cx="685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4419720"/>
            <a:ext cx="12189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4:25:40Z</dcterms:created>
  <dc:creator>grahams</dc:creator>
  <dc:description/>
  <dc:language>en-US</dc:language>
  <cp:lastModifiedBy>grahams</cp:lastModifiedBy>
  <dcterms:modified xsi:type="dcterms:W3CDTF">2012-03-22T12:53:06Z</dcterms:modified>
  <cp:revision>2</cp:revision>
  <dc:subject/>
  <dc:title>Slide 1</dc:title>
</cp:coreProperties>
</file>